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ED0-1039-4D78-9BBA-9008D76B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199-7CE3-40B2-AAE3-84D78879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62F-1AD6-44E4-84E5-9D88532F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3A2-979D-4747-9074-26864FEA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380-4693-4455-9A04-F1078E63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47D-6A4B-4BB2-92FC-3E51541F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ACB-974E-4F3E-8B38-300F2E92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D12-862F-432D-B4C3-778906A4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BAD-9A62-47E0-9CFC-060C3601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7EE-C68E-46CD-8974-D278DAAC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064-43EA-4D1A-A1C6-2DF64941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261-BEC6-43DC-B2AD-8DB4A701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6746-432A-4C83-B686-1A492DED1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3.png"/><Relationship Id="rId6" Type="http://schemas.openxmlformats.org/officeDocument/2006/relationships/image" Target="../media/image1.jpe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3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55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79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81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90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91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1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06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22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23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29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41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42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57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67480" y="11523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(tutorial.ppt, 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04:24:33Z</dcterms:created>
  <dc:creator>David Kotz</dc:creator>
  <dc:description/>
  <dc:language>en-US</dc:language>
  <cp:lastModifiedBy>David Kotz</cp:lastModifiedBy>
  <dcterms:modified xsi:type="dcterms:W3CDTF">1999-09-06T04:25:30Z</dcterms:modified>
  <cp:revision>1</cp:revision>
  <dc:subject/>
  <dc:title>No Slide Title</dc:title>
</cp:coreProperties>
</file>