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338C-7FA4-498E-8A6A-789FF9DFA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39899-DC10-47C8-B201-28635912C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50E8-8C3C-44B8-A255-6CE9BC5D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A5F9-CF25-4A56-AD8D-A2FFF6A0B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9A9C9-BA01-4666-8DC2-492EF578E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F02B-BB43-4A0E-B9AE-1B81281E1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8F87-1DEE-45DE-8D01-EAFA5896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922D-70FA-4FF3-8AE4-E9D630C7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D5E90-7053-4B1C-BF7B-91B23CEE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48A9-D2D7-4889-B0FD-614290E6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9D47-8E43-4687-A830-DF1B663B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0EF4-8896-4CA2-8D88-B697986B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5233-73A4-4CBD-B5C9-339C6AFD4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4BA5-4E74-4CA3-B2C9-DB641F1F9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09CFB2A-9EC2-4A37-B385-BA68E93C9FC0}"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3DC76FD-74F9-4C42-8324-6F4A6F8A9F42}"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B7EA888-1678-43A3-A421-BEDDD18CC01B}"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0B542F8-8C09-4645-A28E-99D655B0C165}"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0D72E0-46F1-42F7-9193-A729BDB5FA54}"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6A3EC82-902A-4079-95F2-6101DF01B2C8}"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9C7B23D-FB37-47D3-A031-A64E8F23938A}"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4F9246D-D0B0-458B-A252-9B0A810D4F4F}"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756E499-70D7-43F4-9124-39C1888AC982}"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E7A9375-393E-4DB7-826B-5C6EE26DA599}"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E7584E2-C432-4A21-B4EA-D006F5F4CAA2}"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2D2B1D8-E4D8-435E-AED3-19DA9B34D908}"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C648B7D-D6D6-4CBB-BAEC-0057061886DC}"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B230A2-A52C-4171-B080-E5BF4CA3745A}"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03A6E9A-38F8-4B13-951D-EFF1D1B49171}"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C1FB9B9-8CA4-4484-8FC5-087399695E40}"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51DD874-5979-47A4-BB80-5DBF1B79DE89}"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BD395C-21FF-4EB8-95B6-61955EEB5811}"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977B9F-FF6B-4AC2-8569-97F271674C7A}"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4FD7332-6481-4FE4-9FC2-98ABCB4C6E02}"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9D2C810-EAB2-4566-89BE-AD696A7272BD}"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B9DA687-AA6A-46BD-9590-465F2B0682CF}"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3573BDA-BBEA-4962-A546-C4C4E5248554}"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B5C4DB6-5FE1-40F2-A9A8-082D02B362E5}"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D073805-10C8-4C0A-A1D7-CDCFCE4A13B0}"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43D2CAF-A52C-4D0F-9FC9-F8B5B3CA14DA}"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3AB13F5-6F3C-4DCC-BEEE-6DE0F888979A}"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6129E1F-7E94-4937-84D3-C1AA7436BDDF}"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D44D267-A017-4534-8E40-B745287DA243}"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F82824C-D01F-4089-BB55-E99FC979B4C8}"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247830D-6206-4122-AECD-CDD87F97726E}"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5261BE3-0A41-45EA-820D-3F1E518D6A8D}"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00FB63C-7789-4398-87F5-C4C7EB2270AE}"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DB35E38-F3FE-4123-BEBA-E75197807A0F}"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53B891B-8876-486D-AB93-C5F584795884}"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7F653F4-7F41-4CB8-A7AD-A74E586C9663}"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E0C9D43-8B6D-422A-9CFA-F427360DAA0D}"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0751771-F210-45BD-A513-5166E4515207}"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65FEDF1-8662-4941-8195-37209B11C06E}"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4EA1521-E939-47AD-8A01-1627AAF2C50B}"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E4E993A-FF60-4EB9-A6B7-AFD5A1A2B025}"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1C4D4A0-A1ED-4CD1-B6D1-FD021B9A69B2}"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D9432E1-5E37-4BD2-ACE2-08663A23F7FC}"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3A512EF-E813-433E-A2F7-4345A942B0F1}"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071FD4D-80A3-4B46-B510-D5455BAA62DA}"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8A79321-5697-4239-A09D-C4407F21DA10}"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402EE0F-C0BF-4616-A2D0-A851DFECCB71}"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32D3734-60E8-4604-B1AE-B2DF55ADF879}"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CA50840-74C5-4D53-A3EC-399602F9A0F4}"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7D6FAEC-E3A2-4660-94F0-CAB20B43FBE8}"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A3017EF-2B91-43E8-88F6-23A755A3B8AC}"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1DD70F3-7A67-40AC-B219-4D0EC42DAF72}"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EFBD2FE-B732-4BD4-9F82-0C0CD7B73528}"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E816C58-B67A-4FFA-BA69-362CD23D8355}"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E11A62A-2042-4E04-BD87-0C7A2C7887D4}"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C232444-6C0F-4CFD-8645-AF2C7B9E3826}"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F525193-476D-460E-A07D-3A1F5596DC51}"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D705708-9F41-4CCA-9987-3D07314B4113}"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322EC04-C165-4E6D-8254-8240709FC980}"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FFB0D74-2C70-49BF-8C80-323C613206CD}"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271AD05-A483-44CA-A490-515D3B65A3F8}"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2E8A7B9-0544-4D5E-A13C-F22C132C7012}"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83D6C51-B66A-4578-B3FD-4D082C3CA66C}"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DA1425-AC88-448C-831B-D40FBF048157}"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C292CBB-3E56-4AB1-BC2A-6211A019DD60}"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BA13F9F-9D40-4E5E-B2E6-3DF9BEE5558B}"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6ADEBD8-D023-4CB9-B31A-7FB5B0AFC1BD}"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3385364-A6ED-4FDB-877A-4BCBA1F0BF86}"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BB9F9B8-6B65-4A83-9FCA-B397094CD75C}"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D5A3B00-794C-45FE-B0F7-B7C063A62721}"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C6237FB-27FC-4368-BC3D-9EA7420A06F7}"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DD1EA95-7961-415F-AFB3-3FD2BDC85052}"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F3FF41E-F2F2-423B-8E4F-B32DDABD56E6}"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51DDD37-85F0-4336-A997-B8983DC72134}"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013A56-790C-424E-999B-78F50D372A61}"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6CDF134-C8DE-42BB-8A13-F3059373395C}"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9B37271-A4F2-4BC1-85A1-BF66CA822A56}"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A3749DA-C8CC-4605-A03A-7CDF47BA404D}"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00EA839-F326-467F-AF21-5B84D59C8BA2}"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12E8643-4B96-42AC-8CFF-1A8A3D1761FF}"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D1440E6-839D-4B2A-A4D1-E43185061713}"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5ACEE2B-500C-414E-AFCF-C151FF393209}"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38CF97C-66F1-41AE-B7EF-83D0D6A546BF}"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A2A00F1-38E6-4707-82AE-A9EDD20514B8}"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257526B-6FD8-4BB2-90E8-2811D94F4F6E}"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70C24F4-026C-4FF9-8BE1-7C4ADDADC977}"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98588B9-EE5E-4896-A9FC-398C6CCF7808}"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7AC6304-3020-44B8-A00D-BF3CF6CE8230}"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69AAA7F-3A5D-4D74-B551-00FFB5AD057C}"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547974B-1D4B-433C-82E9-3B6FDD405CE6}"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1924826-62DD-47CD-A276-E43868CB2F7F}"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08784D9-9B57-47F4-A415-3AA853796630}"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73FFEB6-8604-4CE7-B375-20907B7DA8FF}"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B479538-21DC-4E52-B292-E06D98CE11CC}"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88D1FC-5832-4F36-9AC1-C0679F0CCDA9}"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3097CE-5F87-40BF-8A7A-A1274D5E721F}"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21FDC3C-7E0D-4935-B3ED-9A9FC555CA33}"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8E82B08-3809-42A9-91B0-B50ABED4F121}"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5B1C16C-2DFF-47C6-887D-6CFFA413F8D8}"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B7195C0-CCDD-4BB3-9B03-E5F83830B1E4}"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1021EB-3501-476C-A8CF-56C368A621D2}"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9F4D026-EB00-4DDD-99B0-51E3C6E55B9D}"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2FB89D3-478F-47A7-BAAF-4312AE529B38}"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53DEAC6-34C3-4421-9908-A1D22BFC4686}"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90F3C7-9600-498E-9ABC-9B8B6A920C29}"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0CBFF60-653D-4A92-9A65-EA8C11EAA3BD}"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DC98BAE-5B22-48F7-8E94-DA0C19D222E1}"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CF57408-B1CB-44BD-9D9F-E8BB2FDEF8C1}"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2416917-392E-46C6-AE4A-ED045C673B0D}"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070E956-6BA3-4625-8046-C88246DB4116}"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EC1D03B-F49B-4C7E-9BF4-59287B6CC261}"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8C6706-0C57-4480-AE42-9CC904D05B32}"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E40ECAD-1066-4037-A9DC-7C4AF7CC675E}"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0110CC8-3E14-490B-AD25-0146214977A5}"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B442FE5-949E-4727-A988-8FDA974DEB48}"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46CBE14-C5D9-4AA9-9DFD-4F3509CB30DB}"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5F445C2-6558-4E21-8BEB-BCC1C35805DA}"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2B49C43-C75D-4733-B121-0B5CCB88F807}"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5171AB9-ADBC-4D43-BCF7-549BC44A1B9C}"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DABBDD5-6556-410C-A972-3E6EE05A9CDE}"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D2300DD-29C2-4CED-8D10-98332DCDDB77}"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